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645E-CCDE-4573-834A-F1777007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53E8-9956-4A36-BC1E-0D68F91F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3107-AA56-4494-8564-7858FD11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690-CEA9-482F-AE3B-962D144F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40C-CB11-4501-AD6A-ADE033F3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05C-E65E-4D5F-920D-A99CE0E7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420-4846-470C-84B8-BEE6D9E0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9CA-EA24-4F7C-B3AE-C007DC7C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12C-3750-4678-9A9D-9FDA7DCF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C9D-AB94-4073-A48D-27A0C0F1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F6E-B09A-48FB-940C-C43E7562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15D-C615-4FFA-97C0-15BE3C42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6943-688D-4933-860A-E39B27203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7707240" cy="23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8000"/>
                </a:solidFill>
                <a:latin typeface="Times New Roman"/>
              </a:rPr>
              <a:t>История</a:t>
            </a:r>
            <a:br>
              <a:rPr sz="7200"/>
            </a:br>
            <a:r>
              <a:rPr b="1" i="1" lang="en-US" sz="7200" spc="-1" strike="noStrike">
                <a:solidFill>
                  <a:srgbClr val="008000"/>
                </a:solidFill>
                <a:latin typeface="Times New Roman"/>
              </a:rPr>
              <a:t>4 клас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Косолапова Надежда Павл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учитель начальных класс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МОУ «СОШ № 2 г. Ос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270828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Обращались к богу с молитво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Приносили жертвы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Изображали бога из дерева или камн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609480"/>
            <a:ext cx="85690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Что предпринимали славяне,  чтобы уберечь себя от гнева богов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1268280"/>
            <a:ext cx="8569080" cy="409104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404640"/>
            <a:ext cx="2135160" cy="597708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388200" y="404640"/>
            <a:ext cx="2311200" cy="595008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059280" y="404640"/>
            <a:ext cx="2868480" cy="597564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907920"/>
            <a:ext cx="7777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8000"/>
                </a:solidFill>
                <a:latin typeface="Times New Roman"/>
              </a:rPr>
              <a:t>В честь богов славяне устраивали </a:t>
            </a:r>
            <a:r>
              <a:rPr b="1" i="1" lang="en-US" sz="6600" spc="-1" strike="noStrike" u="sng">
                <a:solidFill>
                  <a:srgbClr val="008000"/>
                </a:solidFill>
                <a:uFillTx/>
                <a:latin typeface="Times New Roman"/>
              </a:rPr>
              <a:t>праздник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44280"/>
            <a:ext cx="3960720" cy="35593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435640" y="1700280"/>
            <a:ext cx="3529080" cy="48229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4032360" cy="261288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3419640" y="260280"/>
            <a:ext cx="3528720" cy="223524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124000" y="3068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Пасх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1989000"/>
            <a:ext cx="316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Маслен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877000"/>
            <a:ext cx="403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Иванов ден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5877000"/>
            <a:ext cx="2773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Тро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94200" y="141300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3120" y="141300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3840" y="141300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4560" y="1413000"/>
            <a:ext cx="7210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3480" y="213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92400" y="213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13120" y="213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33840" y="213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12760" y="213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33480" y="213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4200" y="213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33840" y="285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53120" y="285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3840" y="285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94560" y="285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3480" y="285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94200" y="285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285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94200" y="357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13120" y="357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3840" y="357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4560" y="3571920"/>
            <a:ext cx="7210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4920" y="357192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29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429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29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97440" y="429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33840" y="501336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53120" y="501336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3840" y="501336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94560" y="501336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3480" y="501336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4200" y="501336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14920" y="501336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56000" y="573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4920" y="573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573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573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73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73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36720" y="573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573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5732640"/>
            <a:ext cx="72072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260280"/>
            <a:ext cx="316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63640" y="146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44720" y="29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44720" y="364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25440" y="442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472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920" y="586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8000"/>
                </a:solidFill>
                <a:latin typeface="Times New Roman"/>
              </a:rPr>
              <a:t>Языческие</a:t>
            </a:r>
            <a:br>
              <a:rPr sz="9600"/>
            </a:br>
            <a:r>
              <a:rPr b="1" i="1" lang="en-US" sz="9600" spc="-1" strike="noStrike">
                <a:solidFill>
                  <a:srgbClr val="008000"/>
                </a:solidFill>
                <a:latin typeface="Times New Roman"/>
              </a:rPr>
              <a:t> верования</a:t>
            </a:r>
            <a:br>
              <a:rPr sz="9600"/>
            </a:br>
            <a:r>
              <a:rPr b="1" i="1" lang="en-US" sz="9600" spc="-1" strike="noStrike">
                <a:solidFill>
                  <a:srgbClr val="008000"/>
                </a:solidFill>
                <a:latin typeface="Times New Roman"/>
              </a:rPr>
              <a:t> славян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00" y="188640"/>
            <a:ext cx="2086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Times New Roman"/>
              </a:rPr>
              <a:t>Дух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5410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домо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70800" y="5410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водян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7504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леш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96040" y="1197000"/>
            <a:ext cx="2517840" cy="41767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1197000"/>
            <a:ext cx="2593800" cy="417024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341520" y="1197000"/>
            <a:ext cx="2598840" cy="413712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6600"/>
                </a:solidFill>
                <a:uFillTx/>
                <a:latin typeface="Times New Roman"/>
              </a:rPr>
              <a:t>Почему славяне верили в духов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Хотели во что-то вер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Жизнь людей зависела от прир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Их заставили вер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Не  умели объяснять происходящие в природе я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Страх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Верховные боже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4681800" cy="462600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55640" y="5913360"/>
            <a:ext cx="380988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Бог солнца -Хо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Верховные боже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34920" y="5943240"/>
            <a:ext cx="50403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Times New Roman"/>
              </a:rPr>
              <a:t>Бог грома и молнии- Перу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332000" y="1341360"/>
            <a:ext cx="6191280" cy="4489560"/>
          </a:xfrm>
          <a:prstGeom prst="rect">
            <a:avLst/>
          </a:prstGeom>
          <a:ln w="5724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8000"/>
                </a:solidFill>
                <a:latin typeface="Times New Roman"/>
              </a:rPr>
              <a:t>Верховные божеств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68000" y="5910120"/>
            <a:ext cx="4800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Бог  огня - Сваро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76360" y="1201680"/>
            <a:ext cx="6264360" cy="474840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Times New Roman"/>
              </a:rPr>
              <a:t>Верховные боже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55640" y="6054480"/>
            <a:ext cx="4800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Бог  ветра - Стрибо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297560" cy="5040360"/>
          </a:xfrm>
          <a:prstGeom prst="rect">
            <a:avLst/>
          </a:prstGeom>
          <a:ln w="3816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d9ffd9"/>
            </a:gs>
            <a:gs pos="100000">
              <a:srgbClr val="e5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8000"/>
                </a:solidFill>
                <a:latin typeface="Times New Roman"/>
              </a:rPr>
              <a:t>Что              предпринимали славяне, чтобы уберечь себя          от гнева богов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6:55:17Z</dcterms:created>
  <dc:creator>Косолапова Надежда Павловна</dc:creator>
  <dc:description/>
  <dc:language>en-US</dc:language>
  <cp:lastModifiedBy>Vlad</cp:lastModifiedBy>
  <dcterms:modified xsi:type="dcterms:W3CDTF">2010-04-28T19:34:17Z</dcterms:modified>
  <cp:revision>55</cp:revision>
  <dc:subject>Введение в историю  4 класс</dc:subject>
  <dc:title>Языческие верования славян</dc:title>
</cp:coreProperties>
</file>